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87C-1ABF-425D-9EDD-43C09BC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E25-84E6-4CA0-B00B-0009379C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F76-4CF9-4CEE-8A59-D470664F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B72-5A4B-4D67-9BF1-8CCDC510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71E-376A-4CF3-9660-14FDA265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AFF-196A-4703-B5E9-3100340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F48-F31E-49E7-A0C5-DF6521F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DB1-C70C-42F5-AB5F-747DD0F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453-B7AC-4E1B-8D75-6FD5938A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395-1ED3-4B26-BC22-0ADD024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CFD-31E5-4688-A4D6-D2B214B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6C6-6ACD-4CD4-B54B-603E8AF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BA5F-579D-44B3-B3A8-B473CCF0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 9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na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ge vor, das wir nach Berlin geh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g_hi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54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u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n mit dem bus von die flughafen zu das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flugzeug ticket, round trip, $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7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43000" y="-609480"/>
            <a:ext cx="4114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Deutsch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2800" y="1639800"/>
            <a:ext cx="5918400" cy="444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1014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lin,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durch der Brandenburg g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in die University of Ber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zur die Berlin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auf die Olympic Sta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zu Das Bundest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g_hi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429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8288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523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3581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schlafe im Best Western Premier Hotel Mo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$106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eine n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st: $74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ie sau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as Hallenb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meeting 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Flugzeug = $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Hotel= $7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Bus= $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 Total =$1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29Z</dcterms:created>
  <dc:creator>CUSD220</dc:creator>
  <dc:description/>
  <dc:language>en-US</dc:language>
  <cp:lastModifiedBy>CUSD220</cp:lastModifiedBy>
  <dcterms:modified xsi:type="dcterms:W3CDTF">2012-01-09T12:53:07Z</dcterms:modified>
  <cp:revision>7</cp:revision>
  <dc:subject/>
  <dc:title>Kapital 9 project</dc:title>
</cp:coreProperties>
</file>